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BB2-7424-42C4-BE58-03E2777BF5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, специалисту необходимо спросить себя, насколько глубоко я готов говорить с родителями на тему суицида и его причинах, позаботиться о собственном эмоциональном состоянии; думать и планировать профилактическую работу с родителями от которой будет толк лучше в ресурс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F02-EB24-450D-B484-BAF9AC19F2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317-F15E-4715-82B0-F26BD45D73C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и не бояться делать каждому взрослому, работающему с детьми. И разъяснять это род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1597-F593-4AA9-8CC0-EC0CEE2084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дел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A0DA-E6EA-4B9F-A098-48A5B4C1FC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методы используют специалисты. Они же необходимы в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7E7-970D-4C68-8C83-3B72A02D60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ТД важен для подрост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285-6842-449D-BEA9-46833FF4A0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дителями важно говорить о отношениях между папой и мамой, которые будут служить детям опорой, о нахождение путей взаимодействия, общения друг с другом, несмотря на раз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моббинг, общение в Интернет – пространстве через социальные сети, чаты мгновенных сооб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7C14-38F9-4315-A5AA-9FCE11C046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9CD-E77A-4453-BFAE-845F4663FA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ный фон. Сами по себе говорят о нездоровье, как физическом, так и психическом наличии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BBA-3A67-486B-9239-07C773D8EB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сами по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D06A-682C-47E4-9A4C-32A088A4B1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A3F-19C5-4E32-B4D6-EDE00948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D3F-471B-4E4F-B972-9E309E20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FA3-6E33-4817-9DC0-191DA91F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D4D-E5B7-4054-8FFA-405C8AB1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0163-A59D-46D8-9E55-CCB66FE3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7DA-EE45-43DA-BAF2-E874A86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B34-E54D-4BE1-9C39-E5DC4C7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74FF-3D4A-4774-A862-FEE9886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2C9-936B-4664-AB74-5414529E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CADD-CE61-41FD-A928-7CB926E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4001-3837-420C-A6C9-B73315CF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47F-40BF-4190-8112-10F5638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5030-26C4-4261-9D60-3B13784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CBC2-DD94-4921-A3C6-F063B31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1337-2F2A-4A17-898B-5EF9DC5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8E8-12FE-43F2-AE31-1F674481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C943-E794-46B1-B384-281EA84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0A28-FAEE-4CD2-ACB8-E9A67149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A598-3E28-4A4A-8F2A-97798F15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8A62-60DD-4211-AA59-E938D51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2BE1-E0B5-46FF-9851-5635DCCF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AB22-0328-4B7E-A011-E500FECB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FB5-84E9-46C2-A309-3F567D98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E175-A48D-481D-AC31-D5397C2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E98A-8123-4C3F-A75E-5CFC002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D814-4010-4BFC-8119-C4D15483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73BA-C68C-4155-A99E-C716A0F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E6BD-31ED-4130-8557-73791452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173C-E4A8-4068-87CF-750E389A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A702-FE7A-4CB7-85B1-86C053F0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824D-BC59-4F01-B8B1-395088F6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26C2-0C45-482C-8D49-2582CB3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9B42-EAE8-4789-A08B-94F1A82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0E4-7918-4C59-9C06-0291484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12CF-9B8E-476D-97CA-368218E4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0D87-7345-4A53-806C-08E82C85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C541-CB4F-41E6-BB4C-4E8DEEB6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CBAD-BADD-47C1-B387-1F8820B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6A82-55D5-44D5-AD29-A3F1497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4DAC-0CC0-4F2D-B0D1-2E9DC40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1966-25E1-4AAC-9904-AC33A9D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41933-3B3F-45E3-98BC-40002056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B943-D4B9-43ED-ACDB-CCC49AB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65DE8-989D-4C35-A0F4-66D414F8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C58-E9DE-46CB-974C-CAFF3110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D489-BB33-4DFD-AFEB-14E8B580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D716-FEB8-4FA5-B386-9AB9226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EB44-10D4-49E8-A364-1A8C609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F38D-54C2-415F-BDDE-19BB88A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909C-B672-4610-BC42-93B8998B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2929-9734-436D-8D0F-4AC4756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6676-77AB-46D0-9FA1-1267798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F811-2901-4B65-8FFD-E839D32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C0FC-F801-43B2-B645-A5C861C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2666-B034-4A74-956C-7D2ECEC7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503-E8E5-4D46-8848-645515A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85D6F-7663-422C-8791-8C686AE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CB2C9-95D8-4219-AC35-5E47A65F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6C497-BEA7-4FF3-BAD9-A069BF1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75FDA-EB62-437F-A012-3D8FE6C3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03956-CBF0-4449-BDA6-B887B072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3AFC9-1515-4745-83F1-850C425B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C80F5-8080-4FE7-AB3E-6B56357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C5690-A902-4EEA-83BD-B132208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858BC-1FD7-4461-B2C0-26B60E3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456A7-DECE-441E-B0B3-1FEEA712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0E9-C38B-4296-A73D-FCC6CAA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63949-BD27-49AD-ACA2-8218F96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2EC4C-DC26-4D85-A44F-B7F3DB46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E9F86-AF45-48CE-A9C6-6D6B487D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87CB-FF1A-4F33-9CD6-A9D8DD6C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E913-87D4-4F3A-BA38-48D44A1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29A0-DA7B-4984-B7FB-F49B1BCD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5071-7891-43DC-A5CE-388E4BF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F58B-D91A-4EDD-959B-C2DD3000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2FAD-0970-46DC-9E79-ED85CD35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C7C3-CDD4-418B-8A6B-AD95E16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718-B19F-4010-ABEB-DDDB29E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05220-43B5-4D00-85F8-BE96190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E3896-B9E1-4E00-8119-BB2CD92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9E32A-994D-408A-A8AA-7203633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45F35-BAA6-4A3F-ABD4-B17BD530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4AA7-5FCA-4E20-B9D8-CCEB5090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D8E-669F-4384-A200-EC3881A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A30C-8327-4FA0-A41C-E9B25338A55B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B075-F85B-4ECC-B939-909C56291938}" type="slidenum">
              <a:rPr b="0" lang="ru-RU" sz="2800" spc="-1" strike="noStrike">
                <a:solidFill>
                  <a:srgbClr val="47534c"/>
                </a:solidFill>
                <a:latin typeface="Garamon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CC1-5B27-43DE-A739-B7D3FDD19838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C5E7-3B8D-47CA-BAEA-E347DFEA00BE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3F0B-0537-4BC4-9758-65C7DE5135B2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3421-4008-4EFC-858F-A1F45F954DB5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955-4C78-4674-BD1A-EAC6266F5E0A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1920" y="214200"/>
            <a:ext cx="870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МБУ МП г.Казани «Комплексный Центр социального обслуживания детей и молодежи «Доверие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редупреждение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уицидального поведения у детей и  подростков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руководитель ОППП «Сердэш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Н.А.Сабирова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Казань 2017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0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7286760" y="1571760"/>
            <a:ext cx="1380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СЛЕДУЕТ ОБРАЩАТЬ ВНИМАНИЕ НА СЛЕДУЮЩИЕ ЗАЯВЛЕНИЯ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навижу жизнь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всем будет лучше без мен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мне нечего ждать от жизн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они пожалеют о том, что мне сделал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 могу этого вынест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стал обузой для всех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покончу с собой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икому я не нужен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скоро все закончитс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это выше моих сил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480" y="1571760"/>
            <a:ext cx="8483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станавливай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доброжелательные взаимоотношения со всеми деть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оворите с ребенком /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Важен эмоциональный контакт 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Дайте возможность выговориться ему. Слушайте со всем вниманием, не осуждая, что даёт возможность выговориться без боязни быть прерванны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покойно и доходчиво спрашивайте о тревожащей ситуации, без обвинения, «допроса» и осуждени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являйт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заботу,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ддержку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, участи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буйте понимать чувства, которые испытывает ребенок,  помогайте ему сохранить веру в себ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4200" y="14288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пределите источник дискомфорта, причину конфликта. Окажите помощь в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решении актуальной проблем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пытайтес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уменьшить степень психологической зависимости от причины,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овлекшей суицидальное поведение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еляйте надежду, что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блему можно решить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 Приведи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имеры конструктивного выхода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з подобной ситуации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ите использоват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оды снятия психологического напряж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ребенку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осознать личностные ресурс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ему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определить реалистичную перспективу на будуще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РЕКОМЕНДАЦИИ ПО ПРОВЕДЕНИЮ БЕСЕДЫ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50012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азговаривайте в спокойном месте, чтобы избежать возможности быть прерванным в беседе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деляйте всё внимание собеседнику, смотрите на него, удобно, без напряжения расположившись напротив, но не через стол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ерескажите то, что собеседник рассказал вам, чтобы он убедился, что вы действительно поняли суть услышанного и ничего не пропустил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айте возможность собеседнику высказаться, не перебивая его, и говорите только тогда, когда он перестанет говори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Говорить без осуждения и пристрастия, что способствует усиление у собеседника чувства собственного достоинства; произносить только конструктивные фразы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МОЩЬ В СЛУЧАЯХ СУИЦИДАЛЬНО-ОРИЕНТИРОВАННОГО ПОВЕДЕНИЯ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сновные метод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Эмоциональная поддержк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воевременная  консультация специалист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оощрение положительных устремлений для облегчения ситуации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бучение социальным навыкам и умениям преодоления стресса 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собственном пример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ЕСЛИ У РЕБЕНКА ТЯЖЕЛОЕ ЭМОЦИОНАЛЬНОЕ СОСТОЯНИЕ (ВЫСОКИЙ РИСК СУИЦИДА)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4200" y="1571760"/>
            <a:ext cx="8501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 оставляйте ребенка одного/сообщите взрослому, кто отвечает за ребен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льзя в такой ситуации спорить с ребенком, обвинять,  осуждать, игнорировать ег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Обязательно обратитесь к специалистам, направьте родителей на консультацию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(психиатру, психотерапевту, психологу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МБУ МП г. Казани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«Комплексный Центр социального обслуживания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детей и молодежи «Доверие»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 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ши контакты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. Казань,   ул. Годовикова, 14, 2-ой подъезд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ро «Авиастроительная», ост. Максимов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Тел.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571-15-80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www.kcsodoverie.ru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vk.com/serdes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1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3851280" y="1841400"/>
            <a:ext cx="147780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Доверия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кризисной медико-психологической помощи «Сердеш 129»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279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55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80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 доверия  г. Казани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277 - 00 – 00 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(общая линия)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8360" y="131112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Телефон Доверия для детей, подростков и их родителей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8-800-2000-122</a:t>
            </a: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82d"/>
                </a:solidFill>
                <a:latin typeface="Century Gothic"/>
              </a:rPr>
              <a:t>Анонимно       Бесплатно    Круглосуточн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Рисунок 3" descr="http://fond-detyam.ru/detskiy-telefon-doveriya/ДТД.JPG"/>
          <p:cNvPicPr/>
          <p:nvPr/>
        </p:nvPicPr>
        <p:blipFill>
          <a:blip r:embed="rId1"/>
          <a:stretch/>
        </p:blipFill>
        <p:spPr>
          <a:xfrm>
            <a:off x="7308720" y="3108240"/>
            <a:ext cx="1500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15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В ПОДРОСТКОВОМ ВОЗРАСТЕ, В СИЛУ ОСОБЕННОСТИ  РАЗВИТИЯ ЧЕЛОВЕКА НА ДАННОМ ВОЗРАСТНОМ ЭТАПЕ, </a:t>
            </a:r>
            <a:r>
              <a:rPr b="1" lang="ru-RU" sz="2000" spc="-1" strike="noStrike" u="sng">
                <a:solidFill>
                  <a:srgbClr val="6b7d72"/>
                </a:solidFill>
                <a:uFillTx/>
                <a:latin typeface="Book Antiqua"/>
              </a:rPr>
              <a:t>ЛЮБАЯ СИТУАЦИЯ МОЖЕТ БЫТЬ </a:t>
            </a: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ГИПЕРБОЛИЗИРОВАНА, СТАТЬ  ТРАВМИРУЮЩЕЙ: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001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больших перемен в психологическом,     социальном, физиологическом план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приобретения социальных навык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конструктивно общаться /через ссоры, конфликтные ситуации, обесценивание опыта взрослых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преподносить себя / через переживание насмешек, придирок, критики и т.п.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болезненного поиска себя, своего места в жизни;   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переживаний: ссоры с родителями, первая влюбленность, комплексы по поводу внешности, непростые отношения со сверстникам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потребность в близком друге, которому можно доверить свои тайны и страх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7715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ПОЧЕМУ ДЕТИ РЕШАЮТСЯ НА СУИЦИД…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первом  месте – сложная для ребенка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емейная обстановка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.т.ч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фликтный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, уход одного из родителей из семьи,  конфликты, насилие  между родными и близкими, жестокое обращение с ребенком, психологическое, физическое и    сексуальное насил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втором месте –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еразделенная любовь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ретьем – конфликты со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верстниками, проблемы, связанные с обучение в школе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/преследование , отвержение, неприятие в реальном школьном пространстве, в виртуальных социальных сообщества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НОВНЫЕ МОТИВЫ СУИЦИДАЛЬНОГО ПОВЕДЕНИЯ У ДЕТЕЙ И ПОДРОСТК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е обиды, одиночества, отчужденности, непонима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ействительная или мнимая утрата любви родителей, неразделенное чувство или рев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Завышенные требования , игнорирование как лич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я, связанные со смертью, разводом или уходом родителей из семь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вины, стыда, оскорбленного самолюбия, самообвин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Боязнь позора, насмешек или униж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трах наказания, нежелания извинитьс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Любовные неудачи, сексуальные эксцессы, беремен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мести, злобы, протеста; угроза или вымогательство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Желание привлечь к себе внимание, вызвать сочувстви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чувствие или подражание друзьям, героям фильмов, кумирам, влияние сообщества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7d72"/>
                </a:solidFill>
                <a:latin typeface="Book Antiqua"/>
              </a:rPr>
              <a:t>ОСОБЕННОСТИ СУИЦИДАЛЬНОГО ПОВЕДЕНИЯ ПОДРОСТКОВ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2139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щущение безысходности, неразрешимости конфликта, чувство отчаяния и одиночества возникают в следствии отсутствия достаточного жизненного опыта,  юношеского максимализма, неумения предвидеть истинные последствия своих поступков и прогнозировать исходы сложившейся ситуац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в подростковом возрасте: эмоциональная неустойчивость, повышенная внушаемость, сензитивность, импульсивность могут  формировать  предпосылки к суицидальному поведению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 95% случаев имеется отягощенный семейный анамнез: хронический алкоголизм родителей; характеропатии и личностные акцентуации родителей, создающие напряженность в семье; патология у родственников и родителей, депрессии, психозы, случаи суицидов в семьях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ВЫШАЕТ РИСК СУИЦИДАЛЬНОГО ПОВЕДЕНИЯ У ПОДРОСТКОВ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потребление алкоголя, наркотических препаратов /по статистике случаев с связанных с употреблением не был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сталость, длительный стресс /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ремя сдачи экзаменов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Конфликты, связанные с учебой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Чувство беспомощности,  безнадеж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сутствие ситуации успеха в значимых видах деятель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териальные  трудност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(повышенная эмоциональность, впечатлительность, импульсивность, демонстративность)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сихические расстройства, особенно тяжелые депресс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Хронические или смертельные болезн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енденция к самоповреждению; агрессия,  направленная на себ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личие предыдущей (незаконченной) попытки суицида, суицид в семь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ФИЗИОЛОГИ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теря аппетита или чрезмерный импульсивный аппетит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нижение или повышение веса тел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сонница или повышенная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ритма сн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менструального цикла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астые жалобы на боли в животе, головные боли, постоянную усталость,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ащенный пульс, сердцеби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ышенное артериальное давл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ухость во рту, нехватка воздуха, ощущение стесненного дыхания, комка в горл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увство физической тяжест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412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ЭМОЦИОНАЛЬНЫ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8000" y="1642680"/>
            <a:ext cx="84358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ход от контактов, изоляция от друзей и семь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езапные приступы гнев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скуки при деятельности, которая раньше приносила удовольствие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ссимистическая оценка прошлого, настоящего, отсутствие планов и перспектив в будущем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увство беспомощности и зависимост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ообвинения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ность, безразличи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ревог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р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ОВЕДЕН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4304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езкое снижение активности в реальном мире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менение привычек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еобычно пренебрежительное отношение к своему внешнему виду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лонность к неоправданно рискованным поступкам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Злоупотребление психоактивными веществам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ыбор тем разговора, книг, музыки, фильмов связанных со смертью и самоубийствам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ямые и косвенные сообщени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Шутки, иронические высказывания о бессмысленности жизни, желании умере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учение и приобретение  средств для совершения суицида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ообщения о конкретном плане суицид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ход из дом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исьма к близким, раздаривание вещей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щание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2:30:56Z</dcterms:created>
  <dc:creator>User</dc:creator>
  <dc:description/>
  <dc:language>en-US</dc:language>
  <cp:lastModifiedBy>Начальник ОУУП и ПДН</cp:lastModifiedBy>
  <dcterms:modified xsi:type="dcterms:W3CDTF">2017-03-29T07:47:43Z</dcterms:modified>
  <cp:revision>39</cp:revision>
  <dc:subject/>
  <dc:title>Слайд 1</dc:title>
</cp:coreProperties>
</file>